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77A-D2DD-4EC0-86CD-1CEB4479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767-5E2A-4E2F-93C0-F0CE7D0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1CB-6192-49A7-8854-AEBBE5EB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504-5EDA-4049-BD98-A2332508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B8C-0E64-4DC1-BBA9-984C7DD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636-2BF0-4EF6-9677-724A7C4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CAF-1CED-4D4C-BB96-BF7864A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140-0B45-4ACC-9E9D-3A9D9EB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BD5-2FC0-43F4-85C2-2A28339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7D5-4C42-4A83-BAF4-0953287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FA5-3FEC-46C7-92ED-904AACC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F35-11BC-4DB7-9614-F412B5C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E30-AF65-4FD2-BB8B-1DE133DAE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3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Familiar with Curriculum We Will Teach, Model Step One in Process of Unit Planning, Assign Our Culminating Project/Performanc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Repeat process above with "Acquire Skill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ding Literary Tex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08T22:55:15Z</dcterms:modified>
  <cp:revision>2</cp:revision>
  <dc:subject/>
  <dc:title>PowerPoint Presentation</dc:title>
</cp:coreProperties>
</file>